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C7F-A5A1-4DE5-98D8-204CF5E5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2AE-F9E3-4812-B246-A3CB77F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962-B566-4C42-90BF-940B3107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ED3-0DDF-41CA-8EC7-C904FE24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C35-1681-4316-A86B-3B6807DD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FF2-E48A-4C48-9F48-836F2C7B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24F-0720-4808-BD9A-E317D4B6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7B5-883E-4024-982F-A9027ADB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A4A-F59C-42B4-9AD9-25269C1F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B61-1A33-4C6A-8D5B-81F5FB0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BF4-269B-4DC2-B53E-700A5501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698-91F2-450C-8B44-9C1ABCF3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7DBE-F4F6-47AB-AF1F-2FFB6990F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d60093"/>
                </a:solidFill>
                <a:latin typeface="Comic Sans MS"/>
              </a:rPr>
              <a:t>Passé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d60093"/>
                </a:solidFill>
                <a:latin typeface="Comic Sans MS"/>
              </a:rPr>
              <a:t>&lt;&lt;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333360"/>
            <a:ext cx="676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ont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ourn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ort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3213000"/>
            <a:ext cx="676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u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riv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0093"/>
                </a:solidFill>
                <a:latin typeface="Comic Sans MS"/>
              </a:rPr>
              <a:t>n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89000"/>
            <a:ext cx="457200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scend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tr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98100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omb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ntr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l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0093"/>
                </a:solidFill>
                <a:latin typeface="Comic Sans MS"/>
              </a:rPr>
              <a:t>m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ort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rt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cc00"/>
                </a:solidFill>
                <a:latin typeface="Comic Sans MS"/>
              </a:rPr>
              <a:t>Futur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cc00"/>
                </a:solidFill>
                <a:latin typeface="Comic Sans MS"/>
              </a:rPr>
              <a:t>&lt;&lt;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2080" y="1593720"/>
            <a:ext cx="78465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0800" spc="-1" strike="noStrike">
                <a:solidFill>
                  <a:srgbClr val="00cc00"/>
                </a:solidFill>
                <a:latin typeface="Comic Sans MS"/>
              </a:rPr>
              <a:t>vais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" y="2787480"/>
            <a:ext cx="909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fr-FR" sz="8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fr-FR" sz="8800" spc="-1" strike="noStrike">
                <a:solidFill>
                  <a:srgbClr val="00cc00"/>
                </a:solidFill>
                <a:latin typeface="Comic Sans MS"/>
              </a:rPr>
              <a:t>Infinti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404640"/>
            <a:ext cx="33480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900" spc="-1" strike="noStrike">
                <a:solidFill>
                  <a:srgbClr val="00cc00"/>
                </a:solidFill>
                <a:latin typeface="Comic Sans MS"/>
              </a:rPr>
              <a:t>-e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900" spc="-1" strike="noStrike">
                <a:solidFill>
                  <a:srgbClr val="00cc00"/>
                </a:solidFill>
                <a:latin typeface="Comic Sans MS"/>
              </a:rPr>
              <a:t>-i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900" spc="-1" strike="noStrike">
                <a:solidFill>
                  <a:srgbClr val="00cc00"/>
                </a:solidFill>
                <a:latin typeface="Comic Sans MS"/>
              </a:rPr>
              <a:t>-r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7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all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alle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 u="sng">
                <a:solidFill>
                  <a:srgbClr val="333399"/>
                </a:solidFill>
                <a:uFillTx/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4160" y="61920"/>
            <a:ext cx="3292920" cy="66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l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jou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écou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gar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ng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ravaill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ticip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16520" y="44280"/>
            <a:ext cx="3314160" cy="66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rriv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s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tourn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ntr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n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mb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ntr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85720" y="333360"/>
            <a:ext cx="2402640" cy="585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ois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un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orm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r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n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7960" y="133200"/>
            <a:ext cx="3596040" cy="66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tten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ppren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écri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oi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oi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7040" y="1593720"/>
            <a:ext cx="35258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US" sz="20800" spc="-1" strike="noStrike">
                <a:solidFill>
                  <a:srgbClr val="d60093"/>
                </a:solidFill>
                <a:latin typeface="Comic Sans MS"/>
              </a:rPr>
              <a:t>ai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562040"/>
            <a:ext cx="9093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8800" spc="-1" strike="noStrike">
                <a:solidFill>
                  <a:srgbClr val="d60093"/>
                </a:solidFill>
                <a:latin typeface="Comic Sans MS"/>
              </a:rPr>
              <a:t> Participe     </a:t>
            </a:r>
            <a:r>
              <a:rPr b="0" lang="en-US" sz="88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8800" spc="-1" strike="noStrike">
                <a:solidFill>
                  <a:srgbClr val="d60093"/>
                </a:solidFill>
                <a:latin typeface="Comic Sans MS"/>
              </a:rPr>
              <a:t>Pass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96000" y="404640"/>
            <a:ext cx="22320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d60093"/>
                </a:solidFill>
                <a:latin typeface="Comic Sans MS"/>
              </a:rPr>
              <a:t>-é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d60093"/>
                </a:solidFill>
                <a:latin typeface="Comic Sans MS"/>
              </a:rPr>
              <a:t>-i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d60093"/>
                </a:solidFill>
                <a:latin typeface="Comic Sans MS"/>
              </a:rPr>
              <a:t>-u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v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ve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760" y="142920"/>
            <a:ext cx="3009240" cy="66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l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jou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écout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gar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ng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t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ravaill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ticip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640" y="182520"/>
            <a:ext cx="211932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ois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un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orm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000" y="189000"/>
            <a:ext cx="28933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tten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3333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e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t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fait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404640"/>
            <a:ext cx="4562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n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476280"/>
            <a:ext cx="525600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0520" y="1593720"/>
            <a:ext cx="7921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0800" spc="-1" strike="noStrike">
                <a:solidFill>
                  <a:srgbClr val="d60093"/>
                </a:solidFill>
                <a:latin typeface="Comic Sans MS"/>
              </a:rPr>
              <a:t>suis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8000" y="1562040"/>
            <a:ext cx="9093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 Participe     </a:t>
            </a: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Pass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692280"/>
            <a:ext cx="406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-é </a:t>
            </a:r>
            <a:r>
              <a:rPr b="0" i="1" lang="en-US" sz="8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-i</a:t>
            </a:r>
            <a:r>
              <a:rPr b="0" i="1" lang="en-US" sz="8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-u</a:t>
            </a:r>
            <a:r>
              <a:rPr b="0" i="1" lang="en-US" sz="8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su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274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somm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êt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 u="sng">
                <a:solidFill>
                  <a:srgbClr val="333399"/>
                </a:solidFill>
                <a:uFillTx/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s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s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8:27Z</dcterms:created>
  <dc:creator> </dc:creator>
  <dc:description/>
  <dc:language>en-US</dc:language>
  <cp:lastModifiedBy> </cp:lastModifiedBy>
  <dcterms:modified xsi:type="dcterms:W3CDTF">2010-03-02T09:03:55Z</dcterms:modified>
  <cp:revision>4</cp:revision>
  <dc:subject/>
  <dc:title>Passé</dc:title>
</cp:coreProperties>
</file>